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D0F-9483-4A68-AF21-C043F897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76A-432B-4BBE-A126-3A113377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B84-D4D1-4E19-A885-D4FB5600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CA6-94A0-4760-AD21-D73AED88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6C3-E0AB-4F96-BB0E-41DCB3AB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51B-DF87-45D1-8287-A19DEB1A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2E4-F762-4680-A1C1-5503A0D2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72E-B433-4E65-A694-5DDF9E0B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EC5-33D4-4616-97E3-1320F2F7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FBD-3C54-454B-8E32-36464E79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7AF-3DC4-47D1-AD45-A99EB0AB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135-4E0C-4177-93A4-96F4503B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4E61-66FD-4D29-9F47-95369C31DD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adley Hand ITC"/>
              </a:rPr>
              <a:t>La Mansion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 Math"/>
              </a:rPr>
              <a:t>Por Marcella Domicia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mansion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y gra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lujo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6058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ocin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 u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c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 mu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upund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moder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b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un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st modern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luj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5038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uar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mi cuar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muy gran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est mu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mo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86200" y="2205000"/>
            <a:ext cx="47624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omedo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mi come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en organizad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91644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aló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mi s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muy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t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dina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gra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482904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5:40Z</dcterms:created>
  <dc:creator>domicianomar</dc:creator>
  <dc:description/>
  <dc:language>en-US</dc:language>
  <cp:lastModifiedBy>domicianomar</cp:lastModifiedBy>
  <dcterms:modified xsi:type="dcterms:W3CDTF">2013-04-11T17:06:51Z</dcterms:modified>
  <cp:revision>4</cp:revision>
  <dc:subject/>
  <dc:title>La Casa </dc:title>
</cp:coreProperties>
</file>